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1A1-5BC8-40A3-AE25-8E041AC5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0FB-546B-40A5-92E9-D691FE87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D7E-5EF3-47F7-9AE7-4F8668D4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313-376F-4318-825D-F98BCB53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D5D-9671-47A3-9E46-5C8451D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9BF-88E8-4787-8B30-5142B1CC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9B9-2D41-4333-B3D0-F0DFA4A2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285-9904-4989-A801-817AEBEC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78E-7DFA-428C-A369-233DAD58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087-7D55-4EA1-9328-7789045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7F0-8659-4FC4-A73A-73914A3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5EA-44B4-4309-9539-4998DB5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3434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43F-EA67-4DE3-9D86-C92969DA6E8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DSCN3306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3bb7"/>
                </a:solidFill>
                <a:latin typeface="Abadi MT Condensed Extra Bold"/>
              </a:rPr>
              <a:t>ELETTROSTATICA</a:t>
            </a:r>
            <a:endParaRPr b="0" lang="en-US" sz="7200" spc="-1" strike="noStrike">
              <a:solidFill>
                <a:srgbClr val="43434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1.gstatic.com/images?q=tbn:ANd9GcQEmYrFD9UMmo88FUBb9uBzIu-0IxspnmAhzl5G1m9aLxzjyO--HA"/>
          <p:cNvPicPr/>
          <p:nvPr/>
        </p:nvPicPr>
        <p:blipFill>
          <a:blip r:embed="rId2"/>
          <a:stretch/>
        </p:blipFill>
        <p:spPr>
          <a:xfrm>
            <a:off x="0" y="0"/>
            <a:ext cx="2771640" cy="2289240"/>
          </a:xfrm>
          <a:prstGeom prst="rect">
            <a:avLst/>
          </a:prstGeom>
          <a:ln w="0">
            <a:noFill/>
          </a:ln>
        </p:spPr>
      </p:pic>
      <p:sp>
        <p:nvSpPr>
          <p:cNvPr id="44" name="Rettangolo 3"/>
          <p:cNvSpPr/>
          <p:nvPr/>
        </p:nvSpPr>
        <p:spPr>
          <a:xfrm>
            <a:off x="2700360" y="190440"/>
            <a:ext cx="6480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6600"/>
                </a:solidFill>
                <a:latin typeface="Arial"/>
              </a:rPr>
              <a:t>Benjamin Franklin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Boston 1706 –Filadelfia 17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stato uno scienziato e politic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tuni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il primo a parlare di corpi elettricamente carichi e pose le basi per l’elettrosta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2421000"/>
            <a:ext cx="87487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pi elettrizzati con cariche dello stesso segno si respingono, corpi elettrizzati con cariche di segno opposto si attirano. Le sostanze e i corpi che ci circondano non manifestano generalmente proprietà elettriche. Essi sono definiti neutri, cioè non manifestano alcuno stato elett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i="1" lang="it-IT" sz="2400" spc="-1" strike="noStrike">
                <a:solidFill>
                  <a:srgbClr val="ff6600"/>
                </a:solidFill>
                <a:latin typeface="Arial"/>
              </a:rPr>
              <a:t>Principio della conservazione della caric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Franklin sancisce che nei fenomeni di elettrizzazione non si ha la creazione, ma solo il trasferimento di carica elettrica da un corpo al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o, in modo che il bilancio complessivo della carica sia costante nel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31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340000" y="836640"/>
            <a:ext cx="43927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c8c93"/>
                </a:solidFill>
                <a:latin typeface="Arial"/>
              </a:rPr>
              <a:t>	</a:t>
            </a:r>
            <a:r>
              <a:rPr b="1" lang="it-IT" sz="2400" spc="-1" strike="noStrike" u="sng">
                <a:solidFill>
                  <a:srgbClr val="c944ff"/>
                </a:solidFill>
                <a:uFillTx/>
                <a:latin typeface="Arial"/>
              </a:rPr>
              <a:t>STROFINIO</a:t>
            </a:r>
            <a:r>
              <a:rPr b="1" lang="it-IT" sz="24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strofinando due corpi isolanti, 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o strappa elettroni al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tro creando eccesso di cariche positive in uno ed eccesso di cariche negative nel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t0.gstatic.com/images?q=tbn:ANd9GcT08MWPIuRHjxMl_DraF8BHQDFY7TdCdv5hIOLvRPpOBmzWMq6S0g"/>
          <p:cNvPicPr/>
          <p:nvPr/>
        </p:nvPicPr>
        <p:blipFill>
          <a:blip r:embed="rId1"/>
          <a:stretch/>
        </p:blipFill>
        <p:spPr>
          <a:xfrm>
            <a:off x="210960" y="5157720"/>
            <a:ext cx="220032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dacrema.com/fisica/elettro3.jpg"/>
          <p:cNvPicPr/>
          <p:nvPr/>
        </p:nvPicPr>
        <p:blipFill>
          <a:blip r:embed="rId2"/>
          <a:stretch/>
        </p:blipFill>
        <p:spPr>
          <a:xfrm>
            <a:off x="179280" y="3141720"/>
            <a:ext cx="2305080" cy="159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t3.gstatic.com/images?q=tbn:ANd9GcTuDbtWmfFUmTUiyuoefx4DfUzHNxY2dh8EXxafj-YzdYIht1jU"/>
          <p:cNvPicPr/>
          <p:nvPr/>
        </p:nvPicPr>
        <p:blipFill>
          <a:blip r:embed="rId3"/>
          <a:stretch/>
        </p:blipFill>
        <p:spPr>
          <a:xfrm>
            <a:off x="6588000" y="90792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5"/>
          <p:cNvSpPr/>
          <p:nvPr/>
        </p:nvSpPr>
        <p:spPr>
          <a:xfrm>
            <a:off x="1332000" y="18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944ff"/>
                </a:solidFill>
                <a:latin typeface="comic"/>
              </a:rPr>
              <a:t>I metodi di elettr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http://t2.gstatic.com/images?q=tbn:ANd9GcR8sXvQYoRQ06vKxigbDOAcweq4NerJYgR72wbOze2o-YQG9w5PmQ"/>
          <p:cNvPicPr/>
          <p:nvPr/>
        </p:nvPicPr>
        <p:blipFill>
          <a:blip r:embed="rId4"/>
          <a:stretch/>
        </p:blipFill>
        <p:spPr>
          <a:xfrm>
            <a:off x="108000" y="98100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52" name="Rettangolo 7"/>
          <p:cNvSpPr/>
          <p:nvPr/>
        </p:nvSpPr>
        <p:spPr>
          <a:xfrm>
            <a:off x="2736720" y="5033880"/>
            <a:ext cx="6407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944ff"/>
                </a:solidFill>
                <a:uFillTx/>
                <a:latin typeface="Arial"/>
              </a:rPr>
              <a:t>INDUZ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senza passaggio di car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ettriche, un corpo ridistribuisce le prop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riche orientandosi verso uno già ca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340000" y="344340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c3e3f"/>
                </a:solidFill>
                <a:latin typeface="Arial"/>
              </a:rPr>
              <a:t>	</a:t>
            </a:r>
            <a:r>
              <a:rPr b="1" lang="it-IT" sz="2400" spc="-1" strike="noStrike" u="sng">
                <a:solidFill>
                  <a:srgbClr val="c944ff"/>
                </a:solidFill>
                <a:uFillTx/>
                <a:latin typeface="Arial"/>
              </a:rPr>
              <a:t>CONTATTO </a:t>
            </a:r>
            <a:r>
              <a:rPr b="0" lang="it-IT" sz="2400" spc="-1" strike="noStrike">
                <a:solidFill>
                  <a:srgbClr val="c944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un corpo neutro viene elettrizzato tramite il semplice trasferimento di cariche da un oggetto ca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contenuto 2"/>
          <p:cNvSpPr/>
          <p:nvPr/>
        </p:nvSpPr>
        <p:spPr>
          <a:xfrm>
            <a:off x="0" y="335772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Quando strofiniamo il palloncino e la sciarpa, il palloncino perde elettroni, cedendoli alla sciarpa (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elettrizzazione per strofin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ra, il palloncino è carico positivamente e la sciarpa nega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vvicinando il palloncino al muro, gli elettroni del muro si dirigono verso il palloncino per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ind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e questo può rimanere attacc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4" descr="Immagine1.jpg"/>
          <p:cNvPicPr/>
          <p:nvPr/>
        </p:nvPicPr>
        <p:blipFill>
          <a:blip r:embed="rId2"/>
          <a:stretch/>
        </p:blipFill>
        <p:spPr>
          <a:xfrm>
            <a:off x="1979640" y="44280"/>
            <a:ext cx="5040360" cy="3613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59920"/>
            <a:ext cx="86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Infatti, due corpi carichi possono attrarsi o resping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secondo la regola sperimentale che cariche opposte si attraggono e uguali si resping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L</a:t>
            </a:r>
            <a:r>
              <a:rPr b="0" lang="ja-JP" sz="24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intensità con cui si attraggono/respingono è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dalla legge di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Coulomb</a:t>
            </a:r>
            <a:r>
              <a:rPr b="0" lang="it-IT" sz="2800" spc="-1" strike="noStrike">
                <a:solidFill>
                  <a:srgbClr val="3366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e </a:t>
            </a:r>
            <a:r>
              <a:rPr b="0" i="1" lang="it-IT" sz="2400" spc="-1" strike="noStrike">
                <a:solidFill>
                  <a:srgbClr val="3366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è un costante che nel vuoto 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magine 3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2087640" cy="4732200"/>
          </a:xfrm>
          <a:prstGeom prst="rect">
            <a:avLst/>
          </a:prstGeom>
          <a:ln w="9360">
            <a:solidFill>
              <a:srgbClr val="cdd7d9"/>
            </a:solidFill>
            <a:miter/>
          </a:ln>
          <a:effectLst>
            <a:outerShdw dist="38183" dir="2700000" blurRad="0" rotWithShape="0">
              <a:srgbClr val="cdd7d9">
                <a:alpha val="75000"/>
              </a:srgbClr>
            </a:outerShdw>
          </a:effectLst>
        </p:spPr>
      </p:pic>
      <p:pic>
        <p:nvPicPr>
          <p:cNvPr id="58" name="Immagine 4" descr=""/>
          <p:cNvPicPr/>
          <p:nvPr/>
        </p:nvPicPr>
        <p:blipFill>
          <a:blip r:embed="rId3"/>
          <a:stretch/>
        </p:blipFill>
        <p:spPr>
          <a:xfrm>
            <a:off x="28440" y="2637000"/>
            <a:ext cx="6554880" cy="1439640"/>
          </a:xfrm>
          <a:prstGeom prst="rect">
            <a:avLst/>
          </a:prstGeom>
          <a:ln w="9360">
            <a:solidFill>
              <a:srgbClr val="cdd7d9"/>
            </a:solidFill>
            <a:miter/>
          </a:ln>
          <a:effectLst>
            <a:outerShdw dist="38183" dir="2700000" blurRad="0" rotWithShape="0">
              <a:srgbClr val="cdd7d9">
                <a:alpha val="75000"/>
              </a:srgbClr>
            </a:outerShdw>
          </a:effectLst>
        </p:spPr>
      </p:pic>
      <p:pic>
        <p:nvPicPr>
          <p:cNvPr id="59" name="Immagine 5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4570560" cy="719280"/>
          </a:xfrm>
          <a:prstGeom prst="rect">
            <a:avLst/>
          </a:prstGeom>
          <a:ln w="9360">
            <a:solidFill>
              <a:srgbClr val="cdd7d9"/>
            </a:solidFill>
            <a:miter/>
          </a:ln>
          <a:effectLst>
            <a:outerShdw dist="38183" dir="2700000" blurRad="0" rotWithShape="0">
              <a:srgbClr val="cdd7d9">
                <a:alpha val="75000"/>
              </a:srgbClr>
            </a:outerShdw>
          </a:effectLst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360" y="333360"/>
            <a:ext cx="8721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r>
              <a:rPr b="1" i="1" lang="it-IT" sz="3200" spc="-1" strike="noStrike">
                <a:solidFill>
                  <a:srgbClr val="ff3847"/>
                </a:solidFill>
                <a:latin typeface="Arial"/>
                <a:ea typeface="Arial"/>
              </a:rPr>
              <a:t>POLARIZZAZIONE DEI DIELETTRICI</a:t>
            </a:r>
            <a:r>
              <a:rPr b="0" lang="it-IT" sz="3200" spc="-1" strike="noStrike">
                <a:solidFill>
                  <a:srgbClr val="ff3847"/>
                </a:solidFill>
                <a:latin typeface="com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t2.gstatic.com/images?q=tbn:ANd9GcSK6dDhwPL5xa3Iw1hZaT2PbvWspjU_knIY4ZPVYos5CloIl5UYDg"/>
          <p:cNvPicPr/>
          <p:nvPr/>
        </p:nvPicPr>
        <p:blipFill>
          <a:blip r:embed="rId2"/>
          <a:stretch/>
        </p:blipFill>
        <p:spPr>
          <a:xfrm>
            <a:off x="2050920" y="3716280"/>
            <a:ext cx="2689200" cy="201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t0.gstatic.com/images?q=tbn:ANd9GcRaHq-SEpN5cQM6dEOgrc7nfnhySeUSY_zN8Ug1qrqsfxwHBAjn"/>
          <p:cNvPicPr/>
          <p:nvPr/>
        </p:nvPicPr>
        <p:blipFill>
          <a:blip r:embed="rId3"/>
          <a:stretch/>
        </p:blipFill>
        <p:spPr>
          <a:xfrm>
            <a:off x="250920" y="4221000"/>
            <a:ext cx="1485720" cy="1629000"/>
          </a:xfrm>
          <a:prstGeom prst="rect">
            <a:avLst/>
          </a:prstGeom>
          <a:ln w="0">
            <a:noFill/>
          </a:ln>
        </p:spPr>
      </p:pic>
      <p:sp>
        <p:nvSpPr>
          <p:cNvPr id="63" name="Rettangolo 5"/>
          <p:cNvSpPr/>
          <p:nvPr/>
        </p:nvSpPr>
        <p:spPr>
          <a:xfrm>
            <a:off x="108000" y="1125360"/>
            <a:ext cx="86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il termine "dielettrico" si intendono gli isolanti elettrici le cui molecole possono essere polarizzate se soggette ad un campo elettr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, la molecola 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qua è composta da un polo positivo (i due atomi di idrogeno) e da uno negativo (quello di ossigeno.) Le sue molecole isolano le cariche, semplicemente disponendosi attorno, orientandosi verso la carica di segno opp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6"/>
          <p:cNvSpPr/>
          <p:nvPr/>
        </p:nvSpPr>
        <p:spPr>
          <a:xfrm>
            <a:off x="179280" y="5805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esto, se non vi fossero minerali o altre sostanze ne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a dei nostri rubinetti, essa sarebbe un perfetto iso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http://upload.wikimedia.org/wikipedia/it/d/d8/Dielettrico.png"/>
          <p:cNvPicPr/>
          <p:nvPr/>
        </p:nvPicPr>
        <p:blipFill>
          <a:blip r:embed="rId4"/>
          <a:stretch/>
        </p:blipFill>
        <p:spPr>
          <a:xfrm>
            <a:off x="6516720" y="3716280"/>
            <a:ext cx="243360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1:06:37Z</dcterms:created>
  <dc:creator>utente</dc:creator>
  <dc:description/>
  <dc:language>en-US</dc:language>
  <cp:lastModifiedBy>Laura Polenta</cp:lastModifiedBy>
  <dcterms:modified xsi:type="dcterms:W3CDTF">2011-06-01T17:56:00Z</dcterms:modified>
  <cp:revision>46</cp:revision>
  <dc:subject/>
  <dc:title>L’acqua magnetica</dc:title>
</cp:coreProperties>
</file>